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D68-1950-4A59-B2AC-0A512718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598-F000-4A37-93D1-AB72DA7E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551-6302-48AA-9147-CEAFE17C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B24-49DF-4A46-B0DD-4EE7C39A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BD6-9A51-47FE-A79D-7FE448F3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8A0-9F4D-412B-9627-1E8DF874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9DD-199E-4356-AEBB-694481C8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CCA-F6C5-4838-B4A8-66E559DD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7ED-6AAC-4488-98D7-6C04B186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641-1505-459E-83AB-A0DE030D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2B6-6184-49D9-9037-130F87FC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B63-C61A-4B3C-8B95-A112F9F3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4695-9816-43A6-97AF-C2430FFC1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M.A.I.N.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USES OF WW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.A.I.N.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lit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ick when ready to go 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6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33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lit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 nation’s armed forces com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minate a country’s national poli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lso a glorification of the 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war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ck when ready to go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gned treaties in which each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volved pledges to defend the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ttacked by an aggres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ically, countries agreed to help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ck when ready to go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mination by one country over the politica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conomic or cultural life of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ntry or reg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e to the Industrial Revolution of the 1800s, some European nations had a large portion of the world under their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 coloni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ck when ready to go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Pride and patriotism in one’s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In terms of WWI, nationalism bec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gressive and subsequently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because of this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jor cause of international 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ck when ready to go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owder K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ne 28, 1914, Gavrilo Princip a Serbian, assassinated Archduke Francis Ferdinand heir to the Austria Hungarian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ink about this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as this one event so important to the beginning of World War 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nd show when ready, then press back to return to the web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1:21:03Z</dcterms:created>
  <dc:creator>Margaret S Roache</dc:creator>
  <dc:description/>
  <dc:language>en-US</dc:language>
  <cp:lastModifiedBy>Administrator</cp:lastModifiedBy>
  <dcterms:modified xsi:type="dcterms:W3CDTF">2012-02-16T16:25:49Z</dcterms:modified>
  <cp:revision>25</cp:revision>
  <dc:subject/>
  <dc:title>MAIN  CAUSES OF WWI</dc:title>
</cp:coreProperties>
</file>